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gif" ContentType="image/gi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2D7E-D4BF-431B-AB4F-4851B696CEE3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D745-EF5B-4ED3-9847-39312C0C4630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03E-68E7-4316-9512-D93708E9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EEB-5617-406A-A827-8DB61856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0A3-ED49-4FFC-A2B4-EFAE448B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CEE-D66D-47C2-9142-D74F90FD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426-8732-4A5F-8951-810CBE4D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9F4-3915-4DEA-84A9-F5DBD62B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890-818F-4944-92D6-37817A01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CCE-F3B1-4566-99E3-F69F2036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710-267F-4397-98D9-D810F361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302-05A3-4F54-A96A-B99CAD4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F00-E02B-4098-AE11-E75D2AE8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34F-984B-4FF8-8126-46D19D64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A58B-8154-4F18-BDFB-C4317890C21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cdc.europa.eu/en/eaad/antibiotics-get-informed/antibiotics-resistance-consumption/Documents/antibiotics-resistance-EU-data-2015.pdf" TargetMode="External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cdc.europa.eu/en/eaad/antibiotics-get-informed/antibiotics-resistance-consumption/Documents/antibiotics-resistance-EU-data-2015.pdf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dc.europa.eu/en/eaad/antibiotics-get-informed/antibiotics-resistance-consumption/Documents/antibiotics-resistance-EU-data-2015.pdf" TargetMode="External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cdc.europa.eu/en/eaad/antibiotics-get-informed/antibiotics-resistance-consumption/Documents/antibiotics-resistance-EU-data-2015.pdf" TargetMode="External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cdc.europa.eu/en/eaad/antibiotics-get-informed/antibiotics-resistance-consumption/Documents/antibiotics-resistance-EU-data-2015.pdf" TargetMode="External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cdc.europa.eu/en/publications/publications/antimicrobial-resistance-europe-2014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cdc.europa.eu/en/eaad/antibiotics-get-informed/antibiotics-resistance-consumption/Documents/antibiotics-resistance-EU-data-2015.pdf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cdc.europa.eu/en/eaad/antibiotics-get-informed/antibiotics-resistance-consumption/Documents/antibiotics-consumption-EU-data-2015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dc.europa.eu/en/eaad/antibiotics-get-informed/antibiotics-resistance-consumption/Documents/antibiotics-consumption-EU-data-2015.pdf" TargetMode="External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dc.europa.eu/en/healthtopics/antimicrobial-resistance-and-consumption/antimicrobial-consumption/esac-net-database/Pages/consumption-rates-by-country.aspx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whocc.no/atc/structure_and_principles/" TargetMode="External"/><Relationship Id="rId2" Type="http://schemas.openxmlformats.org/officeDocument/2006/relationships/hyperlink" Target="http://ecdc.europa.eu/en/healthtopics/antimicrobial-resistance-and-consumption/antimicrobial-consumption/esac-net-database/Pages/consumption-rates-by-country.aspx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who.int/bulletin/volumes/94/9/16-020916.pdf" TargetMode="External"/><Relationship Id="rId2" Type="http://schemas.openxmlformats.org/officeDocument/2006/relationships/hyperlink" Target="http://ecdc.europa.eu/en/publications/publications/antimicrobial-resistance-europe-2014.pdf" TargetMode="External"/><Relationship Id="rId3" Type="http://schemas.openxmlformats.org/officeDocument/2006/relationships/hyperlink" Target="http://www.srm.ro/pdf/1.CDM-Romania_Ann_26%20April%202016+PPS.PDF" TargetMode="External"/><Relationship Id="rId4" Type="http://schemas.openxmlformats.org/officeDocument/2006/relationships/hyperlink" Target="http://ecdc.europa.eu/en/eaad/antibiotics-get-informed/antibiotics-resistance-consumption/Documents/antibiotics-resistance-EU-data-2015.pdf" TargetMode="External"/><Relationship Id="rId5" Type="http://schemas.openxmlformats.org/officeDocument/2006/relationships/hyperlink" Target="http://ecdc.europa.eu/en/eaad/antibiotics-get-informed/antibiotics-resistance-consumption/Documents/antibiotics-consumption-EU-data-2015.pd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.int/bulletin/volumes/94/9/16-020916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ho.int/bulletin/volumes/94/9/16-020916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rm.ro/pdf/1.CDM-Romania_Ann_26%20April%202016+PPS.PDF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Ziua European</a:t>
            </a:r>
            <a:r>
              <a:rPr b="1" lang="ro-RO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ă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a Inform</a:t>
            </a:r>
            <a:r>
              <a:rPr b="1" lang="ro-RO" sz="40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ă</a:t>
            </a:r>
            <a:r>
              <a:rPr b="1" lang="en-US" sz="40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rii </a:t>
            </a:r>
            <a:br>
              <a:rPr sz="4000"/>
            </a:br>
            <a:r>
              <a:rPr b="1" lang="en-US" sz="4000" spc="-1" strike="noStrike">
                <a:solidFill>
                  <a:srgbClr val="83cd29"/>
                </a:solidFill>
                <a:latin typeface="Times New Roman"/>
                <a:ea typeface="Times New Roman"/>
              </a:rPr>
              <a:t>despre Antibiotice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ZEIA)</a:t>
            </a:r>
            <a:br>
              <a:rPr sz="4000"/>
            </a:br>
            <a:br>
              <a:rPr sz="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noiembrie 2016</a:t>
            </a:r>
            <a:br>
              <a:rPr sz="2800"/>
            </a:br>
            <a:br>
              <a:rPr sz="800"/>
            </a:br>
            <a:br>
              <a:rPr sz="7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720" y="5214960"/>
            <a:ext cx="69292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ul celebr</a:t>
            </a:r>
            <a:r>
              <a:rPr b="1" lang="ro-RO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San - CRSP Bucu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ecdca1"/>
          <p:cNvPicPr/>
          <p:nvPr/>
        </p:nvPicPr>
        <p:blipFill>
          <a:blip r:embed="rId1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img8776381737127142"/>
          <p:cNvPicPr/>
          <p:nvPr/>
        </p:nvPicPr>
        <p:blipFill>
          <a:blip r:embed="rId2"/>
          <a:stretch/>
        </p:blipFill>
        <p:spPr>
          <a:xfrm>
            <a:off x="142920" y="578628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4143240" y="5786280"/>
            <a:ext cx="785880" cy="75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tudor\AppData\Local\Microsoft\Windows\Temporary Internet Files\Content.Outlook\QDBSMBB8\SIGLA_GUVERNULUI_ROMÂNIEI-PNG.png"/>
          <p:cNvPicPr/>
          <p:nvPr/>
        </p:nvPicPr>
        <p:blipFill>
          <a:blip r:embed="rId4"/>
          <a:stretch/>
        </p:blipFill>
        <p:spPr>
          <a:xfrm>
            <a:off x="8001000" y="5857920"/>
            <a:ext cx="7635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u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Europ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M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venit o ameni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ve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ănătă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public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 sigura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paci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r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tur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cat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s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medicală,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r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ent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ce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imeaz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 infe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cauzate de bacter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RAM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oa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ual circ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se în Euro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at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D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colo 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vitabil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-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urile as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c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ierderi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e de pe urma incapaci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de mun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fost estimate la cel p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,5 miliarde euro.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mente, o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ă c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entuarea RAM,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ste estimăr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 conside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de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te cele 28 de state membre U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land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orveg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ă la EARS-Ne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ritatea aces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ează în mod regulat d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toate bacteriil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rupurile de antibiotice aflate sub supraveghe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olidarea sistemelor n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le de supraveghere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reflect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u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ea su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icipan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-a lungul fii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i EARS-N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Principalele tulpini rezistente: situa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ia 2011 - 2014 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î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n UE/SEE (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Klebsiella pneumoni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ziste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falosporine gener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 &amp; fluorochinolone &amp; aminoglicozide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29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au raportat 18 861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eficiind de inform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vali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microbial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eptibility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ng) privind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ochinolo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falospor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gener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</a:t>
            </a:r>
            <a:r>
              <a:rPr b="0" lang="vi-V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inoglicoz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Numărul de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variat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17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tele n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le de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variat de la zero (Islanda) până la 63,3% (Slovaci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perioada 2011-2014 a fost calcul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ntru cele 27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care au raportat cel p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 de tulpini izolate pe an, pe parcursul întregii perioade de patru a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Irlanda, Italia, Malta, Norvegi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egatul Un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u prezentat 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emnificativ cre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Italia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a fost semnificativ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cauza nu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ui mai mic de laboratoare cu rapor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consistent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ei 4 ani.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nificative s-au observat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azul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c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ga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ituan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Ol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E/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med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nder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popu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combinate a K. pneumoniae la antimicrobienele m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te a prezentat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 semnificativă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16,7% în 2011 la 19,6% în 20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Klebsiella pneumoni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% izol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aziv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reziste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a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falosporine gener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 &amp; fluorochinolone &amp; aminoglicozide, 2011 -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a medie semnificativ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a fost cauz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în principal de 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negative al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ac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l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niei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veg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o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i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,5%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zi Raportul INSP 2016 citat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esurse biblio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 Summary of the latest data on antibiotic resistance in the European Union. ECDC NOV.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eaad/antibiotics-get-informed/antibiotics-resistance-consumption/Documents/antibiotics-resistance-EU-data-201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357200" y="2852640"/>
            <a:ext cx="635796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Klebsiella pneumoni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ziste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 carbapene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29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au raportat 19 164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eficiind 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AST pentru carbapeneme (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ropenem,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ipene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eva mai p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 d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vind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rtapene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l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fost luate în considerare numai atunci când rezultatele pentru meropenem sau imipenem nu au fost disponib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ărul de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date AST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10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te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în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le raportoare au variat de la zero (Estonia, Finlanda, Islanda, Norvegi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uedia) până la 62,3% (Greci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p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u perioada 2011-2014 au fost calculate pentru cele 26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care au raport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ual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 p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 de tulpini izol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emnificativ cre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 au prezentat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garia, Cro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, Fra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Germania, Italia, Portugali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pa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ar 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descre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fos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ate 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c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 la un nivel foarte ma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1)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r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E/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med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nder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popu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K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monia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rbapeneme a prezentat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nificativă de la 6,0% în 2011 la 7,3% în 201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Klebsiella pneumonia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% izolate invazive cu reziste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arbapeneme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a medie semnificativ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a fost cauz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negative ale Bulgariei, Letoniei, Lituaniei, Portugaliei, Spaniei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o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i, ultima afl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ategoria grafi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% - 50%,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apt 34,3% - al 2-lea cel mai 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loc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E/SEE (vezi Raportul INSP 2016 citat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esurse bibli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 Summary of the latest data on antibiotic resistance in the European Union. ECDC, Nov.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eaad/antibiotics-get-informed/antibiotics-resistance-consumption/Documents/antibiotics-resistance-EU-data-201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357200" y="2492280"/>
            <a:ext cx="6429600" cy="309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Principalele tulpini rezistente: situa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ia 2011- 2014 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î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n UE/SEE (I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Escherichia coli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binat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falosporine genera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29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au raportat 84 016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col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inform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vali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falosporine de genera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ţ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a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cefotaxi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ceftriax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sau ceftazidi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ărul de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eca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ă a vari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34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tele n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le de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variat de la 3,3% (Islanda) până la 40,4% (Bulgaria). Majoritate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l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au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rezistenț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 au fost localizate în sudul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ud-estul Europe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ntru perioada 2011-2014 au fost calculate pentru cele 29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ca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 pentru cel p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 de tulpini izolate pe an, pe parcursul între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ui interval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atru a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gia, Bulgaria, Republica Cehă, Fra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Germania,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cia, Irlanda, Italia, Norvegia, Portugalia, Sloveni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ued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egistrat 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emnificativ cre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Grec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anemarca 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descre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 nu au fost semnificative din cauza nu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ui mic de laboratoare raportoa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o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ei 4 an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ponder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popu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E/SE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E.coli la cefalosporine gener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scut în mod semnificativ, de la 9,6% în 2011 la 12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% în 20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Escherichia co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% izol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aziv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reziste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a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falosporine gener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, 201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a medie semnificativ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a fost cauz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negativ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mania, Irlanda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atul Unit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, Norvegia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d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en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o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,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26,1% în 20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u 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registrat o creştere semnificativă faţă de 20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zi Raportul INSP 2016 citat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esurse biblio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 Summary of the latest data on antibiotic resistance in the European Union. ECDC, Nov.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eaad/antibiotics-get-informed/antibiotics-resistance-consumption/Documents/antibiotics-resistance-EU-data-201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1441440" y="2857680"/>
            <a:ext cx="6429240" cy="3071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Escherichia co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binat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falosporine genera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 &amp; fluorochinolone &amp; aminoglicozi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4, 29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au raportat 80 129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pu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de inform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vali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 pentru rezistența combinată la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falosporin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e genera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ţ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a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fluorochinolone 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ş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 aminoglicozide.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mărul de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port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vari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3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tele n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le de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variat de la 1,4% (Islanda) la 19,7% (Bulgari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ntru perioada 2011-2014 au fost calculate pentru cele 29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care au raport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pentru cel p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de tulpini izolate pe an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parcursul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gului interval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atru a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gia, Bulgaria, Cro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, Ce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a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Irlanda, Italia, Norvegia, Slovacia, Slovenia, Suedi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 au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egistrat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nificati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, iar Danemarc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etonia au prezentat 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 neconcludente cauzate de nu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 mic de laboratoare raportoa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o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ei 4 ani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ponder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popu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E/SE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E.coli la cefalosporine gener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 , fluorochinolone &amp; aminoglicozide 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scut semnificati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3,8%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1 la 4,8%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Escherichia co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% izol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aziv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reziste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a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falosporine gener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, fluorochinolone &amp; aminoglicozide, 201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a medie semnificativ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a fost cauz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negative a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garie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i,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loven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niei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l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. Ro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(cu 8,3 %, vezi Raportul INSP 2016 l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rse 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lio) s-a m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t, al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de Greci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talia,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las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alt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 - 25%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2011 - 201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 Summary of the latest data on antibiotic resistance in the European Union. ECDC, Nov.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eaad/antibiotics-get-informed/antibiotics-resistance-consumption/Documents/antibiotics-resistance-EU-data-201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28840" y="2928960"/>
            <a:ext cx="630072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Principalele tulpini rezistente: situa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ia 2011 - 2014 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î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n UE/SEE (II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Staphylococcus aureu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Europ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într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în apari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</a:t>
            </a:r>
            <a:r>
              <a:rPr b="0" lang="vi-VN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RS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fo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bile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der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 mi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nordul Europe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a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i mare în sud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ud-es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tele n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le de izol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RS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t de la 0,9%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and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ână la 56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% (România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perioada 2011-2014 au fost calculate pentru cele 29 d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care au raportat cel p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 de tulpini izolate pe a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nificati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s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fost observat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marc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loven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imp c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nța, Germania, Irlanda, Italia, Luxemburg, Portugali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egatul Un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egistrat 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emnificativ descres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.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Belgia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e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a fost semnificativ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cauza nu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ui mic de laboratoare raportoar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o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ei 4 an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der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popul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SA a continuat să scadă semnificativ de la 18,6% în 2011 la 17,4% în 2014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ul MRSA a fost mai p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onu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în ultimii ani, în compar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cu cel observat pentru perioada 2009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ot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descres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at în opt d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d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, incl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cu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 MRSA 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joase, 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t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ciuda acestei 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pozitive, MRSA 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o prioritate de sănătate publică în Europa,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te din 29 d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te MRSA de peste 25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MRSA 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cu 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ţă </a:t>
            </a:r>
            <a:r>
              <a:rPr b="0" lang="vi-VN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binată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ticilin)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o denumire istoric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vorba nu doar de meticilină, dar şi de alte peniciline, precum dicloxacilină, nafcilină sau oxacilină, precum şi de cefalospori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http://ecdc.europa.eu/ro/eaad/Documents/banner-600x173-RO.gif"/>
          <p:cNvPicPr/>
          <p:nvPr/>
        </p:nvPicPr>
        <p:blipFill>
          <a:blip r:embed="rId1"/>
          <a:stretch/>
        </p:blipFill>
        <p:spPr>
          <a:xfrm>
            <a:off x="1714680" y="2604960"/>
            <a:ext cx="57150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Staphylococcus aure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% izol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aziv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RSA, 2011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i semnificative cele mai importante au fost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egistrat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o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(singura cu  &gt; 50%,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apt 56,6%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ezi Raportul INSP 2016 l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r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blio)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lovenia. Cro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garia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xembu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ugal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s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t cel mai evident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grafica cuantific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form legende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 Summary of the latest data on antibiotic resistance in the European Union. ECDC Nov.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eaad/antibiotics-get-informed/antibiotics-resistance-consumption/Documents/antibiotics-resistance-EU-data-201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285920" y="2928960"/>
            <a:ext cx="6500880" cy="307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1499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Principalele tulpini rezistente: situa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ia 2011 - 2014 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î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n UE/SEE (IV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Pseudomonas aerugin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ate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lor europene raporteaz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M peste 10% pentru fiecare dintre grupele antimicrobiene supravegheate: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peracilină + tazobactam, ceftazidimă, fluorochinolone, aminoglicozide și carbapene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 carbapeneme s-a situat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4,4 %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59,6% - Ro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(vezi raportul INSP 2016 citat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Resur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) cu media ponder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popu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cre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semnificativ de la 16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%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1 la 18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il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 privind fluorochinolonele sau aminoglicozidele, raportate de mai mult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se reflec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-o des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 semnificativ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diei ponderat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2011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201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Pseudomonas aerugino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AM combina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rei sau mai multe antimicrobie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peracilină + tazobactam, ceftazidimă, fluorochinolone, aminoglicozid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rbapene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29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au raportat 11 649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eficiind 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AS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ind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binată. Numărul de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port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fieca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ă a vari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7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tele n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le de izo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t de la ze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ni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sland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ână l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âni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zi raportul INSP 2016 citat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Resur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)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ntru perioada 201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14 au fost calculate pentr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care au raportat cel p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 de tulpini izolate pe an, pe parcursul întregii perioade de patru an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gari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loven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egistrat 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emnificativ cre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,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r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ri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Fra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egistrat 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descre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are.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ponder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popu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E/SE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binat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rei sau mai multe antimicrobiene dintre grupele supravegheat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ost de 13,3%, în 2014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ansamblul UE/SEE nu s-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o evol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semnificativ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tre 2011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20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Pseudomonas aerugino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% izol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aziv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reziste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a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rei sau mai multe antimicrobie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peracilină + tazobactam, ceftazidimă, fluorochinolone, aminoglicozide și carbapenem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(clasa grafi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50%,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apt 60,2 vezi Raportul INSP citat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Resurs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o) 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egistrat un nivel net ridicat f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media UE/SEE d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3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itu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cea mai defavorabil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rm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ulgaria, Grecia, Cro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lovacia. Island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le Scandinave se aflau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lasa grafi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a mai favorabil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% - 5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357200" y="3286080"/>
            <a:ext cx="6215040" cy="2857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Noi tulpini rezistente: situa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ia 2013 - 2014 </a:t>
            </a:r>
            <a:r>
              <a:rPr b="1" lang="ro-RO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î</a:t>
            </a: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n UE/SEE (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Acinetobacter baumann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28 d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 au raportat 3 910  izol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AST suficiente pentru a determina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binată la </a:t>
            </a:r>
            <a:r>
              <a:rPr b="0" lang="vi-VN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luorochinolone, aminoglicozide </a:t>
            </a:r>
            <a:r>
              <a:rPr b="0" lang="ro-RO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ş</a:t>
            </a:r>
            <a:r>
              <a:rPr b="0" lang="vi-VN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 carbapenem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3,8% din totalul tulpinilor izolate). Numărul de izol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T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vari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te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combinată  în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le care au raporta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t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izol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T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variat de la zero (Finlanda, Danemarc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and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până la 86,9% (Grec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tr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ulpin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ate testate pentru toate cele trei grupe de antibiotice aflate sub supraveghe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,6% au fost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bil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oate aceste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binată la toate cele trei grupe, a fost 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 frecven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8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ic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ost constat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3% din 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 izolate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ar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 două gru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icrobien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uorochinol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au combin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ei cu un alt antimicrobian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fo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t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 mai des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leg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i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bl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oarece nu au fost disponibile date RAM pe 4 ani, sursa nu trage concluzii privind dinamica 2011-2014;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2013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2014, compararea h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r cu clase de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ulori (slide-ul ur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) sugereaz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v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neuniform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Europa.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conform sursei,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le cu procentele de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e mai mari (Itali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recia) situ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s-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 polimixine, g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4% dintre  2 238 izol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ie de asemenea o surs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rijorare, mai ales – din  nou –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Greci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tal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surveillance in Europe 2014. Published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publications/publications/antimicrobial-resistance-europe-2014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4"/>
                </a:solidFill>
                <a:latin typeface="Times New Roman"/>
                <a:ea typeface="Times New Roman"/>
              </a:rPr>
              <a:t>Acinetobacter baumann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% izol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aziv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reziste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at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luorochinolone &amp; aminoglicozide &amp; carbapeneme, 2013 - 2014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, difer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 constatat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3 dintre nordul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udul continentului se m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, ilustrate de rezist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bina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landa, Danemarc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anda, f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 ≥ 50%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o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, Italia, Spani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re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 Summary of the latest data on antibiotic resistance in the European Union. ECDC Nov.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eaad/antibiotics-get-informed/antibiotics-resistance-consumption/Documents/antibiotics-resistance-EU-data-201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Compila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romoSan CRSPB dup</a:t>
            </a:r>
            <a:r>
              <a:rPr b="0" lang="ro-R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CDC Surveillance Report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1000080" y="2781360"/>
            <a:ext cx="7286760" cy="307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/SEE 2014: Consumul de antibiotice pentru uz sistemic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ectorul comunit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2014, consumul de antibiotic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 sistemic î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ul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na prima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afara spitalelor) a variat de la 10,6 DD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l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, î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and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34,1 DD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 în Gre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ar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atul Un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po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 comparabil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iecare dintre ultimii ani, dinamica anual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0-2014 prezen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o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ștere semnificativ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uedi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ipru s-a observat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ădere semnificativ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2010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201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ru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omânia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rnizat date privind consumul total, incluzând atâ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torul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talicesc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rea acestor dat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bila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 p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al consumului comunitar se expli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 faptul 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în medie,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 din consu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are loc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ectorul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, c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î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i precede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 fost antibiot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 mai frecvent utilizate în toat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le, variind de la 32% (Germania) la 67% (Slovenia) din consumu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în timp ce propo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a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upe de antibiotice a variat considerabil într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x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falospor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lte antibiotice beta-lactami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0,2% (Danemarca) la 21% (Slovacia); macrol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incosam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și streptogram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: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5% (Suedia) la 27% (Slovacia)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r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olo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: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2% (Regatul Unit) la 15% (Ungar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,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nderat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a consumulu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E/SEE a fost de 21,6 DD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lo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nificativ crescut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faţă de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Summary of the latest data on antibiotic consumption in the European Union. ECDC Nov.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eaad/antibiotics-get-informed/antibiotics-resistance-consumption/Documents/antibiotics-consumption-EU-data-201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/SEE 2014: consumul de antibiotice de uz sistemic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ectorul comunita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grupuri de antibiotice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30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o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se g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pe o pozi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criti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ocul 29/30), chiar da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ele noastre privesc consumul total - fiind ceva mai mari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vi-V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mânia și Cipr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az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</a:t>
            </a:r>
            <a:r>
              <a:rPr b="0" lang="vi-V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e </a:t>
            </a:r>
            <a:r>
              <a:rPr b="0" lang="vi-V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l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vi-V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torul spitalices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 de circa 10% din consum</a:t>
            </a:r>
            <a:r>
              <a:rPr b="0" lang="vi-V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ar (b) </a:t>
            </a:r>
            <a:r>
              <a:rPr b="0" lang="vi-V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ni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</a:t>
            </a:r>
            <a:r>
              <a:rPr b="0" lang="vi-V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de rambursare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ncluz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</a:t>
            </a:r>
            <a:r>
              <a:rPr b="0" lang="vi-V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ul de antibiotice eliberate fără prescripție medicală și al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nerambursabile</a:t>
            </a:r>
            <a:r>
              <a:rPr b="0" lang="vi-VN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latest data on antibiotic consumption in the European Union. ECDC Nov. 2015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eaad/antibiotics-get-informed/antibiotics-resistance-consumption/Documents/antibiotics-consumption-EU-data-201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928800" y="2571840"/>
            <a:ext cx="7286400" cy="3071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2014: consumul  relativ de antibacteriene de uz sistem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 clasa  J01 ATC  (comunitar &amp; spitalices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nicilinele domi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oul, urmate de alte beta-lactam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tibacteriene (cefalosporine &amp; carbapeneme)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olon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rupa compus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n macrolide, lincosamid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treptogramin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Site-ul oficial ECDC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ecdc.europa.eu/en/healthtopics/antimicrobial-resistance-and-consumption/antimicrobial-consumption/esac-net-database/Pages/consumption-rates-by-country.asp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1785960" y="2786040"/>
            <a:ext cx="5500800" cy="3286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ânia 2013 - 2014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ul total de antibacteriene de uz sistemic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. J01 ATC*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2013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2014 a avut loc o desc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 marginal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sumul total, pe seama penicilinelor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 tetraciclinelor, care contrabalanseaz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umite c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i la alte beta-lactamine ca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a chinolon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ro-RO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sursa interna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l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ursa primar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n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ede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aportul INSP 2016, citat complet la Resurse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bli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i diferen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de origine metodologic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i ales 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datele procentuale; valorile absolute coincid 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general, de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otalurile (cu ro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NSP) nu. Deplasarea general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atelor este 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ea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ele 2 s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al Therapeutic Chemical (ATC) classification, vezi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whocc.no/atc/structure_and_principle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Site-ul oficial ECDC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ecdc.europa.eu/en/healthtopics/antimicrobial-resistance-and-consumption/antimicrobialconsumption/esac-net-database/Pages/consumption-rates-by-country.asp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5840" y="2571840"/>
          <a:ext cx="8572320" cy="3612960"/>
        </p:xfrm>
        <a:graphic>
          <a:graphicData uri="http://schemas.openxmlformats.org/drawingml/2006/table">
            <a:tbl>
              <a:tblPr/>
              <a:tblGrid>
                <a:gridCol w="1838160"/>
                <a:gridCol w="2952720"/>
                <a:gridCol w="1150920"/>
                <a:gridCol w="1038240"/>
                <a:gridCol w="746280"/>
                <a:gridCol w="846000"/>
              </a:tblGrid>
              <a:tr h="56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a antimicrobi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de ATC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um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DD /1000 loc/z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                   20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                20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traciclin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B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fenico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iciline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falosporine, carbapen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lfonamide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ş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rimetopr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F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rolide, lincosamide 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ş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treptogrami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noglicozide antibacteri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olone antibacterie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bina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ţ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tibacteri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01X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 antibacterie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9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32,4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32,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9" name="Picture 4" descr="ecdca1"/>
          <p:cNvPicPr/>
          <p:nvPr/>
        </p:nvPicPr>
        <p:blipFill>
          <a:blip r:embed="rId3"/>
          <a:stretch/>
        </p:blipFill>
        <p:spPr>
          <a:xfrm>
            <a:off x="1476360" y="115920"/>
            <a:ext cx="6551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urt istor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2008 ECDC coordoneaz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ebrarea pe 18 noiembrie a </a:t>
            </a:r>
            <a:r>
              <a:rPr b="1" lang="ro-RO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Zi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ei E</a:t>
            </a:r>
            <a:r>
              <a:rPr b="1" lang="ro-RO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rope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e</a:t>
            </a:r>
            <a:r>
              <a:rPr b="1" lang="ro-RO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</a:t>
            </a:r>
            <a:r>
              <a:rPr b="1" lang="ro-RO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form</a:t>
            </a:r>
            <a:r>
              <a:rPr b="1" lang="ro-RO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ă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i despre A</a:t>
            </a:r>
            <a:r>
              <a:rPr b="1" lang="ro-RO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ntibiotice</a:t>
            </a:r>
            <a:r>
              <a:rPr b="0" lang="vi-VN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ZEIA</a:t>
            </a:r>
            <a:r>
              <a:rPr b="0" lang="en-US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ind sporirea </a:t>
            </a:r>
            <a:r>
              <a:rPr b="0" lang="vi-VN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den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tilizarea </a:t>
            </a:r>
            <a:r>
              <a:rPr b="0" lang="vi-VN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elo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ntru a combate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1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 antimicrobiene (RAM)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inamic major al s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publice mondial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ul Raport anual* al Re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i Europene pentru Supravegherea RAM (EARS-Net), publicat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nov 2015, ofer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intez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zat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 date comunicate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 de 30 de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apar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Spa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lui Economic European (European Economic Area – ce cuprinde UE, Norvegia, Island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chtenstein), precum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naliza de tendin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1-2014*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, RAM prezent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EEA varia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considerabile func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de regiunea geografic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ntru mai multe combina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bacterie-grup antimicrobian propor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RAM este mai mic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nordul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tul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ai ridicat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udul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l Europei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Antimicrobial resistance surveillance in Europe. Stockholm, ECDC Nov. 2015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ecdca1"/>
          <p:cNvPicPr/>
          <p:nvPr/>
        </p:nvPicPr>
        <p:blipFill>
          <a:blip r:embed="rId1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1285560"/>
            <a:ext cx="92520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zii (I – bacterii R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 contin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zinte o proble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ve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nivel mondial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uropean,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a justificat o reuniune specia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adrul ultimei Adu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Gener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ON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E/SEE, dinamica RAM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intervalul 2011 – 2014 contin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nsamblu preocupan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fel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pneumonia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nde mai greu la carbapeneme, ca 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a cefalosporine genera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 &amp; fluorochinolone &amp; aminoglicozide, ia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coli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ne mai rezistent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falosporine genera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a cefalosporine genera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III &amp; fluorochinolone &amp; aminoglicozide. Situa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aeruginos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ai nuan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zisten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 carbapeneme a crescut, dar s-a diminuat groso modo pentru rezisten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</a:t>
            </a:r>
            <a:r>
              <a:rPr b="0" i="1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ochinolonele sau aminoglicozidele; 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privin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M combinate la </a:t>
            </a:r>
            <a:r>
              <a:rPr b="0" i="1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 sau mai multe antimicrobien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</a:t>
            </a:r>
            <a:r>
              <a:rPr b="0" i="1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0" i="1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peracilină + tazobactam, ceftazidimă, fluorochinolone, aminoglicozide 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i="1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rbapenem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ele 2011 – 2014 nu pot distinge evolu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emnificative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ua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SA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ontinuat s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amelioreze 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1 – 2014, totu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u o anumit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etinire fa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ul 2010 – 2013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privin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acter </a:t>
            </a:r>
            <a:r>
              <a:rPr b="1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umannii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</a:t>
            </a:r>
            <a:r>
              <a:rPr b="0" i="1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ochinolone, aminoglicozide 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i="1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arbapenem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ost cea mai r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t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rm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rezisten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ubl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 simpl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plic</a:t>
            </a:r>
            <a:r>
              <a:rPr b="0" i="1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de obicei fluorochinolone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se g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 print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le cele mai vulnerabil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privi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AM: 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mnificativ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moniae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RS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intervalul 2011-2014; la acest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ur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privi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aeruginos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rbapeneme şi multiplă) 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umann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rbapeneme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se af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itu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int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i g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: 1/30 respectiv 4/30 între statele raportoare EARS-n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ecdca1"/>
          <p:cNvPicPr/>
          <p:nvPr/>
        </p:nvPicPr>
        <p:blipFill>
          <a:blip r:embed="rId1"/>
          <a:stretch/>
        </p:blipFill>
        <p:spPr>
          <a:xfrm>
            <a:off x="1476360" y="115920"/>
            <a:ext cx="6551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zii (II – consumul de antibiot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ul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sumu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ntibiot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mbulator, reprezen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90% din consumul total,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rescut semnificativ în 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SE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nele domi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umul de anitibiotic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E/SEE, urmate 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lide,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cosam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treptogram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ntext UE/SEE, Ro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se g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4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-o poz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criti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itu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cea mai defavorabi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ec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30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raportoa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2013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2014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o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ut loc o des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 margina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ul total de antibiotice pe seama penicilinelor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 tetraciclinelor,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contrabalanseaz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umite 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lte beta-lactamine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falosporine, carbapenem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a chinolo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nsumul ro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c 2014, penicilinele domi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oul, urmate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alosporine &amp; carbapeneme,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olon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grupa compu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n macrolide, lincosami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treptogram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Î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 concluzie general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Rom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â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ia se g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ş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 pe euro-pozi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ţ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dintre cele mai vulnerabile 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î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 privin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ţ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RAM la principalele tulpini supravegheate multianual de EARS-Net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ş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de asemenea 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î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 privin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ţ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RAM la Acinetobacter 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umannii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recent monitorizat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Rom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â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ia se g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ş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 de asemenea 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î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 zona cea mai 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înaltă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UE/SEE a consumului total de antibiotice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otu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ş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î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tre 2013-2014 a avut loc o descre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ş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re marginal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î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 co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ul de antibiotice pe seama penicilinelor </a:t>
            </a:r>
            <a:r>
              <a:rPr b="1" lang="ro-RO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ş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a tetraciclinel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ecdca1"/>
          <p:cNvPicPr/>
          <p:nvPr/>
        </p:nvPicPr>
        <p:blipFill>
          <a:blip r:embed="rId1"/>
          <a:stretch/>
        </p:blipFill>
        <p:spPr>
          <a:xfrm>
            <a:off x="1476360" y="115920"/>
            <a:ext cx="6551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42920" y="135684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rse bibliograf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phreys G , Fleck F. United Nations meeting on antimicrobial resistance in 2016. Bulletin of  the WHO. Volume 94, Number 9, September 2016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who.int/bulletin/volumes/94/9/16-020916.pd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Antimicrobial resistance surveillance in Europe 2014. Published 2015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ecdc.europa.eu/en/publications/publications/antimicrobial-resistance-europe-2014.pd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Antimicrobial Resistance and causes of (Non-prudent) use of Antibiotics in human medicine in the EU ARNA, April 2016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srm.ro/pdf/1.CDM-Romania_Ann_26%20April%202016+PPS.PD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Summary of the latest data on antibiotic resistance in the European Union. ECDC NOV. 2015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ecdc.europa.eu/en/eaad/antibiotics-get-informed/antibiotics-resistance-consumption/Documents/antibiotics-resistance-EU-data-2015.pd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Summary of the latest data on antibiotic consumption in the European Union. ECDC Nov. 2015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ecdc.europa.eu/en/eaad/antibiotics-get-informed/antibiotics-resistance-consumption/Documents/antibiotics-consumption-EU-data-2015.pd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-ul oficial ECDC: http://ecdc.europa.eu/en/healthtopics/antimicrobial-resistance-and-consumption/antimicrobial-consumption/esac-net-database/Pages/consumption-rates-by-country.asp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-ul oficial ECDC: http://ecdc.europa.eu/en/healthtopics/antimicrobial-resistance-and-consumption/antimicrobial-consumption/esac-net-database/Pages/consumption-rates-by-country.asp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escu GA,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ban R, Pistol A. Consumul de antibiotic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zi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crobian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ec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comiale 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om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– 2014. INSP, Bucure</a:t>
            </a:r>
            <a:r>
              <a:rPr b="0" lang="ro-RO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 2016: </a:t>
            </a:r>
            <a:r>
              <a:rPr b="0" lang="en-US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cnscbt.ro/index.php/analiza-date-supraveghere/infectii-nosocomiale-1/524-consumul-de-antibiotice-rezistenta-microbiana-si-infectii-nosocomiale-in-romania-2014/fi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ecdca1"/>
          <p:cNvPicPr/>
          <p:nvPr/>
        </p:nvPicPr>
        <p:blipFill>
          <a:blip r:embed="rId6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1642680"/>
            <a:ext cx="8715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850"/>
              </a:spcBef>
              <a:buClr>
                <a:srgbClr val="007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8e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Tema 2016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zvoltarea multi-rezisten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la bacterii - amenin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rav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ntru siguran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amp; via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cien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8e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Slog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d ro</a:t>
            </a:r>
            <a:r>
              <a:rPr b="1" lang="ro-RO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ş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 privind antibiotice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nformare public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scriere prudent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gien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guroas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pi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ecdca1"/>
          <p:cNvPicPr/>
          <p:nvPr/>
        </p:nvPicPr>
        <p:blipFill>
          <a:blip r:embed="rId1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13840" y="1600200"/>
            <a:ext cx="8643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e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8e40"/>
                </a:solidFill>
                <a:latin typeface="Times New Roman"/>
                <a:ea typeface="Times New Roman"/>
              </a:rPr>
              <a:t>Sco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tizarea special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lor privind amplificarea multi-reziste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rma abuzului de antibiotice: importante bacterii Gram-negative ajung progresiv insensibile la toate antibioticele curent disponibil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o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tizarea publicului larg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privi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jloacelor de ap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 aflate la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em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sa: aprofundarea cuno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r privi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e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unile-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entru antibiotic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vitarea recurgerii necontrolate la antimicrobi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e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ecdca1"/>
          <p:cNvPicPr/>
          <p:nvPr/>
        </p:nvPicPr>
        <p:blipFill>
          <a:blip r:embed="rId1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aje cheie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ea exce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fenomenului RAM pentru 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bli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ba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e ilustr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includere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genda ultimei Adu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 Generale ON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n septembrie 2016, necesi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eforturi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i urgent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bs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r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50 se vor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egistra 10 milioane decese asociate 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Europa ultimilor ani situ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s-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entru majoritatea bacteriilor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el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cu antibioticele de ulti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,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iuda campaniilor de co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tizare adresate publicului  larg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pecial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lor (ved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esajele cheie ZEIA 2015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evident necesa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orirea fina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i din fonduri comunitare pentru dezvoltarea de noi ag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ntimicrobieni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entru scurtarea parcursului de la concept la punere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practi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Euro-context, Ro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a se g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poz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dintre cele mai vulnerabile; sunt necesare interv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de maxi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g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oate nivelurile: decid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politici, Ministerul 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tă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, medicii din as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ima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incipala consumatoare de antibiotice)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in spitale -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leg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precau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e la prescriere, salubrizarea avans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pitalelor, igiena intra-spitaliceas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pravegherea epidemiologi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icrobiologi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mediul clini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tatea a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nilor IEC adresate publicului larg rom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c trebuie m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ntru a 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 progresele deja realizate privind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erea oportuni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recurgerii la antibacteriene sau accesul necontrolat la antibioti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ecdca1"/>
          <p:cNvPicPr/>
          <p:nvPr/>
        </p:nvPicPr>
        <p:blipFill>
          <a:blip r:embed="rId1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U: perspectiva global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M,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narea General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U, septembrie 2016, abordeaz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M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-o reuniune special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specia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ord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nomenului RAM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 Adunare Genera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U  este justifica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re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scară largă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la antimicrobiene a unor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i, paraziți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irusu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e creaz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mb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ei lumi fără antimicrobiene ef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nt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are paci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pot muri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urma unor infe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u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 tratabi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timeaz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nivel global 700 000 dece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t asociate RAM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16, cu perspectiva 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ii alarmante 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 circ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ilioane în următorii 35 de ani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A estimeaz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rderi de 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100 trilioane dolari p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50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bs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r con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entru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a aceas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di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neill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 20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it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 Sursa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rm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Marc Sprenger, director al Secretariatulu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 al OMS,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sistem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e insuficient bugetate (majorita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re membri OMS)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ina cele mai serioas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e în gestionare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Humphreys G , Fleck F. United Nations meeting on antimicrobial resistance in 2016. Bulletin of  the WHO. Volume 94, Number 9, September 2016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who.int/bulletin/volumes/94/9/16-020916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S: combaterea generi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iectivele Planului privind RAM, Adunarea Mondial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, aprili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i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o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tiza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 î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ere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nomenului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ist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icrobien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ul decide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r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l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 din 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ijin sus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t pentru mecanismele de supravegher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ercet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domeniul 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elor/circumsta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r care conduc l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cura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nitorizare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bioticelor necesar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medicina uman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eterinar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rea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în dezvolt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 noi antimicrobiene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de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accinur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Humphreys G , Fleck F. United Nations meeting on antimicrobial resistance in 2016. Bulletin of  the WHO. Volume 94, Number 9, September 2016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who.int/bulletin/volumes/94/9/16-020916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ecdca1"/>
          <p:cNvPicPr/>
          <p:nvPr/>
        </p:nvPicPr>
        <p:blipFill>
          <a:blip r:embed="rId2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iec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bale 2050 privind decesele asociate RAM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extrapolarea tendi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actu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entari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 baza datelor din 2009.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DC/EME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z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irca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.0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 anual al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ociate RAM </a:t>
            </a:r>
            <a:r>
              <a:rPr b="0" lang="vi-V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/SEE. P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2050 acest num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ar putea cre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Europa c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 390 000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lipsa solu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or pentru fr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ea tendin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 actuale, la nivelul Americii de Sud, ceva peste America de Nord. Situ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ar deveni catastrofal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 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Africa, dar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ntinentul asiatic (vezi popula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i mare,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European Medicines Agen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sa: Antimicrobial Resistance and causes of (Non-prudent) use of Antibiotics in human medicine in the EU ARNA, April 2016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srm.ro/pdf/1.CDM-Romania_Ann_26%20April%202016+PPS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357200" y="3286080"/>
            <a:ext cx="6500880" cy="265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ecdca1"/>
          <p:cNvPicPr/>
          <p:nvPr/>
        </p:nvPicPr>
        <p:blipFill>
          <a:blip r:embed="rId3"/>
          <a:stretch/>
        </p:blipFill>
        <p:spPr>
          <a:xfrm>
            <a:off x="1476360" y="189000"/>
            <a:ext cx="6551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5T15:06:14Z</dcterms:created>
  <dc:creator>Cristi</dc:creator>
  <dc:description/>
  <dc:language>en-US</dc:language>
  <cp:lastModifiedBy>Alyn</cp:lastModifiedBy>
  <dcterms:modified xsi:type="dcterms:W3CDTF">2016-11-09T21:26:37Z</dcterms:modified>
  <cp:revision>1203</cp:revision>
  <dc:subject/>
  <dc:title>Ziua Europeană  a Informării  despre Antibiotice (ZEIA)  18 noiembrie 2014</dc:title>
</cp:coreProperties>
</file>